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E49F-ED00-4229-AC36-168928294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5EF8-A954-4A2E-A8FE-E250A22DD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C87-0E3F-45DD-BE2F-3753D039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E67-5AB4-4364-83F1-8C620F31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554-DF5E-4AC0-A81B-E5F82BB2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020-A06E-4E0E-A7E4-F1F8C502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EC3-2643-4FA1-8C2D-870BF7F5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E5B-A1F2-4254-A076-FBF7E539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FDC-60E0-4BD1-ABEF-3E6385D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187-8B37-4A47-9FAB-1C352752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6DF-42D6-4125-94F2-86F025F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007-7550-4310-B3C5-7062336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7A3-5E46-4F18-B9F6-31570CB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E25-5C4A-4E9B-99A2-B9BFEC1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778E-8A3B-481E-8FA1-D0B74836F8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C066-FAC5-4483-8574-9B9D860CF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50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еспечение информационной безопасности де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537000"/>
            <a:ext cx="475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8567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сет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ть или не быть, вот в чем вопрос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1"/>
          <p:cNvSpPr/>
          <p:nvPr/>
        </p:nvSpPr>
        <p:spPr>
          <a:xfrm>
            <a:off x="3124080" y="6237360"/>
            <a:ext cx="289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240000" y="1765440"/>
            <a:ext cx="226872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ьза и вред социальных с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доступна, указанная информац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285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мещая информацию на персональной странице, в том числе, свои персональные данные, Пользователь осознает и соглашается с тем, что указанная информация может быть доступна другим пользователям сети Интернет» 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6.jpg"/>
          <p:cNvPicPr/>
          <p:nvPr/>
        </p:nvPicPr>
        <p:blipFill>
          <a:blip r:embed="rId1"/>
          <a:stretch/>
        </p:blipFill>
        <p:spPr>
          <a:xfrm>
            <a:off x="324000" y="3357720"/>
            <a:ext cx="475272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651640" y="31068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Выдержка из Правил «ВКонтакте», которые почти никто не читает при регистрац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е данные - вся информация, указанная Вами при регистрации и в дальнейшем размещаемая на страни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2214360"/>
            <a:ext cx="4786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 телеф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, класс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едения о предпочтениях (группы, посты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еопози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55520" y="-449568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07800" y="-434340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226224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07800" y="-210996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460440" y="-195732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55520" y="-2316240"/>
            <a:ext cx="6667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"/>
          <p:cNvPicPr/>
          <p:nvPr/>
        </p:nvPicPr>
        <p:blipFill>
          <a:blip r:embed="rId1"/>
          <a:stretch/>
        </p:blipFill>
        <p:spPr>
          <a:xfrm>
            <a:off x="4819680" y="2556000"/>
            <a:ext cx="4006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и размещения информации в се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2000" y="126828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может попасть в руки злоумышленник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ение (размещенный Вами пост сегодня, через несколько лет может вызвать у Вас чувства стыда и неумест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ственность (общаясь в соц.сетях можно оскорбить человека, за что предусмотрена ответственность - статья 5.61 КоАП Р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родит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Вашем будущем (учеба, работа…). Интернет «помнит всё»!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иртуальная реа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!!!! Второе слово точно отражает суть дел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ё, что происходит в Сети, реально, и опасности там тоже ре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2865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общаться в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9558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е выкладывайте личную информацию (совместные фотографии, видео, иные данные) о ваших друзьях в Интернет без их разреш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отправляйте свои персональные данные, а также свои видео и фото людям, с которыми вы познакомились в Интернете, тем более если вы не знаете их в реаль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ри общении с другими пользователями старайтесь быть вежливыми, деликатными, тактичными и дружелюб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тарайтесь не реагировать на обидные комментарии, хамство и грубость други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решить проблему мирным путем не удалось, напишите жалобу администратору сайта, потребуйте заблокировать обид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Если администратор сайта отказался вам помочь, прекратите пользоваться таким ресурсом и удалите оттуда свои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Не используйте Сеть для распространения сплетен, угроз или хулиган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е встречайтесь в реальной жизни с онлайн-знакомыми без разрешения родителей или в отсутствие взросл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6021360" y="4508640"/>
            <a:ext cx="2820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10.jpg"/>
          <p:cNvPicPr/>
          <p:nvPr/>
        </p:nvPicPr>
        <p:blipFill>
          <a:blip r:embed="rId1"/>
          <a:stretch/>
        </p:blipFill>
        <p:spPr>
          <a:xfrm>
            <a:off x="5003640" y="4076640"/>
            <a:ext cx="3853080" cy="247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опасность Ваши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119664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акже как и личный дом с вещами и ценностями, надо держать взаперти свой аккаунт с личной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 составлении паролей рекомендуется придерживаться следующих правил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ароль должен содержать не менее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 состав пароля могут входить цифры, латинские буквы, пробелы и специальные символы (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.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 и др. 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комендуется составлять пароль из смешанного набора цифровых и буквенных (прописных и строчных) 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е используйте в качестве парол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еупотребительные слова и устойчивые словосочет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боры символов, представляющие собой комбинации клавиш, расположенных подряд на клавиатуре, такие как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werty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23456789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azxsw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и т. 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сональные данные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мена, фамил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дрес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мера паспо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раховых свидетельств и т.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портале персональныеданные.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2133720"/>
            <a:ext cx="77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есь Вы найдете различные материалы, которые были разработаны специалистами Роскомнадзора, не только для педагогов и родителей, которые хотят помочь детям понять важность конфиденциальности личной жизни при использовании цифровых технологий, но также для молодых людей, которые с легкостью и энтузиазмом используют среду Интер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тал поможет детям понимать последствия, которые информационные технологии могут оказать на личную жизнь, и предоставить им инструменты и информацию, необходимые для принятия решений в вопросах виртуаль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4" descr="http://school55rzn.ucoz.ru/2016/3/banner_pers_dannye.jpg"/>
          <p:cNvPicPr/>
          <p:nvPr/>
        </p:nvPicPr>
        <p:blipFill>
          <a:blip r:embed="rId1"/>
          <a:stretch/>
        </p:blipFill>
        <p:spPr>
          <a:xfrm>
            <a:off x="2008080" y="1341360"/>
            <a:ext cx="460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2486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://socdep.adm44.ru/i/u/61knopka.jpg"/>
          <p:cNvPicPr/>
          <p:nvPr/>
        </p:nvPicPr>
        <p:blipFill>
          <a:blip r:embed="rId1"/>
          <a:stretch/>
        </p:blipFill>
        <p:spPr>
          <a:xfrm>
            <a:off x="1332000" y="2565360"/>
            <a:ext cx="640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03:37Z</dcterms:created>
  <dc:creator>Shevcov</dc:creator>
  <dc:description/>
  <dc:language>en-US</dc:language>
  <cp:lastModifiedBy>Kostynyuk</cp:lastModifiedBy>
  <dcterms:modified xsi:type="dcterms:W3CDTF">2018-06-05T09:46:05Z</dcterms:modified>
  <cp:revision>40</cp:revision>
  <dc:subject/>
  <dc:title>Безопасность в в сети Интернет </dc:title>
</cp:coreProperties>
</file>